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3633-FAE9-451E-A4CC-CFACCC52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4CEC-D901-471F-8CDB-1AB0784F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39B5-6103-4542-95C5-B46EA1905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CAC3-EE6B-4031-8C42-0FBAC245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42DF-7B3B-4832-9F7E-451CD149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D134-B43E-4F4A-9737-75B1B0C3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BDAE-5F77-427A-8507-40115CFC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B8D6-7FA1-428B-82D6-A527E955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030B-5984-4CDF-8A5C-D54CAB53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7178-9796-41C3-A1CD-DE9FBCD6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4224-E598-45EB-9619-F8B4E33B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D65F-DBB8-4EC1-A6EB-FFBFCC6F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AD3C-97A0-4995-9264-F7E86433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FC20-508C-4137-AE6C-BF732483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3A71-F2A7-4D7A-AC07-06876275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9DDE-73CB-42C3-87E3-20B64BD3C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3683-3725-4F4B-BFE7-4644D173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6D67-EF40-46C3-AA39-289CA4A7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4828-334F-4B0D-AEA4-F6B02421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9517-008A-47A9-8A0F-3E7BF9D6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5C4D-53A9-4883-8913-07B3B9B4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3730-881B-4452-86F2-8B9C3280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DDB1-A309-4734-8DD2-1D03238B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5A89-35F8-4B2A-A4BC-4E0692F4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8135-22AE-4EDD-9262-0F1326DF7E67}" type="datetime">
              <a:rPr b="0" lang="zh-CN" sz="1000" spc="-1" strike="noStrike">
                <a:solidFill>
                  <a:srgbClr val="ffffff"/>
                </a:solidFill>
                <a:latin typeface="Tahoma"/>
                <a:ea typeface="宋体"/>
              </a:rPr>
              <a:t>26/7/31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8512-B4D9-4631-BBA7-4CB387593E2F}" type="slidenum">
              <a:rPr b="0" lang="zh-CN" sz="10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AB7A-2B7B-4CA9-98E3-C6D0012BB41B}" type="datetime">
              <a:rPr b="0" lang="zh-CN" sz="1000" spc="-1" strike="noStrike">
                <a:solidFill>
                  <a:srgbClr val="ffffff"/>
                </a:solidFill>
                <a:latin typeface="Tahoma"/>
                <a:ea typeface="宋体"/>
              </a:rPr>
              <a:t>26/7/31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98A6-84DB-497F-AD0E-84174200D24E}" type="slidenum">
              <a:rPr b="0" lang="zh-CN" sz="10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Team Lefthook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	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Michelle Williams-Dav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Lu Y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Ali As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D69E-D002-40EF-9B2F-1818A69EC5E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83925AC-192A-4A41-83B7-797BB5DEB0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Princip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宋体"/>
              </a:rPr>
              <a:t>Insure that the new design can achieve the expected go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宋体"/>
              </a:rPr>
              <a:t>Provide transparency of the environment to us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1E6A-716D-4058-9C58-461191056A7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FED618-84DE-419C-8E6A-F0DC80AA95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Problem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The floor plan of the new hospital seems complicat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宋体"/>
              </a:rPr>
              <a:t>Design company proposes to use single entrance for different department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宋体"/>
              </a:rPr>
              <a:t>The entire hospital will move into the new site over one weeken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6AA7-E34D-4C72-A9A3-FC58AFC65DF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DBF1B3-EEBA-46D8-B0FB-4049F26992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Solu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宋体"/>
              </a:rPr>
              <a:t>Interactive virtual enviro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宋体"/>
              </a:rPr>
              <a:t>To test wayfinding performance for the proposed desig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宋体"/>
              </a:rPr>
              <a:t>To train staff members and visitors to obtain adequate spatial information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FE57-4FCC-4260-A857-02B27C2D0CA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001756-CE52-4831-AB44-33C82F39F4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Evidence  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  <a:ea typeface="宋体"/>
              </a:rPr>
              <a:t>the influence of 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  <a:ea typeface="宋体"/>
              </a:rPr>
              <a:t>complexity of floor plan configuration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2640" y="5638680"/>
            <a:ext cx="4267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Weisman (1979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3048120" cy="3809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rcRect l="12810" t="0" r="31672" b="23955"/>
          <a:stretch/>
        </p:blipFill>
        <p:spPr>
          <a:xfrm>
            <a:off x="4648320" y="1905120"/>
            <a:ext cx="4267080" cy="2735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800600" y="4724280"/>
            <a:ext cx="4343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floor plan of new hospi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4E55-CB2B-448E-8BE2-F6AF2277E86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7CC7C1-2DB8-46E2-9DC6-39E1DD58DF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  <a:ea typeface="宋体"/>
              </a:rPr>
              <a:t>Evidence 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  <a:ea typeface="宋体"/>
              </a:rPr>
              <a:t>research trend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066680" y="1981080"/>
          <a:ext cx="7315200" cy="4692600"/>
        </p:xfrm>
        <a:graphic>
          <a:graphicData uri="http://schemas.openxmlformats.org/drawingml/2006/table">
            <a:tbl>
              <a:tblPr/>
              <a:tblGrid>
                <a:gridCol w="2590920"/>
                <a:gridCol w="1447920"/>
                <a:gridCol w="3276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auth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ye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Research desig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J. Weism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19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field-experi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J. Peponis, C. Zimr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19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field-experi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M. J. O'Neil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19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field-experiment/ virtual environ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S. Haq and C. Zimr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2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field-experi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W. H. K. Lam, M. L. Ta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2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field-experi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Baskaya, A. Wilson and Y. Z. C. Ozc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2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field-experi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S. Werner and L. E. Schindl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2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virtual environ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J. M. Wiener, A. Schnee and H. A. Mallo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2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virtual environ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E. Cubukc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20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virtual environ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Jansen-Osma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virtual environ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F84F-4AB4-4D7B-AEF6-0FC8FA52A78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E6AEEE-8914-4DFB-B60C-BA60365F39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  <a:ea typeface="宋体"/>
              </a:rPr>
              <a:t>Evidence </a:t>
            </a:r>
            <a:br>
              <a:rPr sz="4000"/>
            </a:br>
            <a:r>
              <a:rPr b="1" lang="en-US" sz="3200" spc="-1" strike="noStrike">
                <a:solidFill>
                  <a:srgbClr val="eaeaea"/>
                </a:solidFill>
                <a:latin typeface="Tahoma"/>
                <a:ea typeface="宋体"/>
              </a:rPr>
              <a:t>validity of virtual environment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similar spatial performances for people navig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real-world environ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equivalent virtual environmen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People with virtual environ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training outperform people without tra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  <a:ea typeface="宋体"/>
              </a:rPr>
              <a:t>times to perform route task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  <a:ea typeface="宋体"/>
              </a:rPr>
              <a:t>left-right directional judgme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  <a:ea typeface="宋体"/>
              </a:rPr>
              <a:t>Map Sketch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宋体"/>
              </a:rPr>
              <a:t>ansen-Osmann, P., &amp; Wiedenbauer, G. (2004) , Ruddle, R. A., &amp; Lessells, S. (2006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宋体"/>
              </a:rPr>
              <a:t>Hunt, M. E. (1984), Foreman, N., et al, (2005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263B-5512-4000-9985-BCCE760AB73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129CB7-0473-45C9-94E8-3C2FD0FE87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Solution      </a:t>
            </a:r>
            <a:r>
              <a:rPr b="1" lang="en-US" sz="3200" spc="-1" strike="noStrike">
                <a:solidFill>
                  <a:srgbClr val="eaeaea"/>
                </a:solidFill>
                <a:latin typeface="Tahoma"/>
                <a:ea typeface="宋体"/>
              </a:rPr>
              <a:t>Unreal Engine 2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Production-proven game development fra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objects from 3DS Max &amp; May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Networking and multiple us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Voice communication &amp; user inter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C6BD-C38F-49D6-97F3-23B6EE6315A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B5E5C-6011-49D0-AF67-D6D32A6D04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3. Information boar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  <a:ea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848C-53D5-4505-9B27-E2AE79A8D0E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0F4228A-D43A-4655-B158-C31D9B4115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Princip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Provide transparency of processes to us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3. Patient centered-desig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7F6E-F65A-49BE-BBC9-FB30D330FE7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F53A3B-E0C3-417B-BA3A-DC720F05445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Proble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The patients and parents are not given information about the future care delivery and a feeling of an inability to control surroundings is fel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9C58-5EBA-4992-AAC8-1D8544F663C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EDC7EB-1024-4DE0-BA83-6B39BADEB1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1. Social suppor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  <a:ea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CEBA-FE98-483A-8BD0-9AF58E96833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5B83759-D480-4648-AD46-5BC70E5E99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Evidence: Children’s Hospital of L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800 visits record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25% dissatisf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Lack of warmth and friendli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Failure to address patient concer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Explanation of diagnosis and causation of ill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Use of medical “jargo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BC91-C56D-4CCD-AC24-3C5891E32D1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84A09A-0695-4065-945D-FE7F14819A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Solu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16642" t="31483" r="25001" b="10370"/>
          <a:stretch/>
        </p:blipFill>
        <p:spPr>
          <a:xfrm>
            <a:off x="1546200" y="1981080"/>
            <a:ext cx="65833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BFB9-CDFA-46F0-BF4A-8B76B7F83C6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73BF50-AAF2-4098-BDCD-DB263F430E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Auditory and Visual Learn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Auditory and visual signals combi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Much better as a combi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Better results in a study on 60 childr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Assistive Technology Research Institu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8BCD-3193-4C74-8B0C-C3F5B54AF3A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4D78E-F08C-4D4C-9E61-F4D61CEF19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Princip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宋体"/>
              </a:rPr>
              <a:t>Ensure commitment to education, research and community service as a means of discovering new and better methods to meet the unique health care needs of children within the three centers of excelle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宋体"/>
              </a:rPr>
              <a:t>Provide health care of children and families in a healing environment that emphasizes their quality of lif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0243-4D04-4904-9508-1B7B69A653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326D90-4B17-4E94-BAC9-B4F340C046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Problem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	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Child advocacy patients have mental and physical health need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Georgia is not doing its part in helping children with the fact that Georgia ranks 41st in meeting its children’s needs. (georgiavoices.or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Child advocacy patients will not be accompanied to the hospital with a parent and/or famil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70B7-61B0-4561-8DA4-2749590F22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293B8-76B0-4FCB-830C-0742BDF807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  <a:ea typeface="宋体"/>
              </a:rPr>
              <a:t>Evidence-Need for child advocacy dedication in Georgia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Georgia has a highly ranked economy in national comparis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Georgia ranks 41st in meeting its children’s needs according the Kids Count* report issued annually by the Annie E. Casey Foundatio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5334120"/>
            <a:ext cx="28191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Information fro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Kids Count annual re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358128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8BB6-389F-4C77-BA99-5FE4A592FC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C1D8AB-3145-4F59-96F5-6CE65AE0DA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  <a:ea typeface="宋体"/>
              </a:rPr>
              <a:t>Evidence-Solutions for stress managemen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Ambient experience” reduces the use of sedation for pediatric patients as a result of environmental stres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Kathy Szumanski,  Renee Horton. (2007). The "ambient experience": Pediatric patients and diagnostic testing. Nursing Management, 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38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(1), 32-35.  Retrieved October 6, 2007, from ABI/INFORM Global databas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E8C7-8AF2-4DF8-B346-9FE7CEE0C3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298B2C-AE2D-47B3-A367-0845634C37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Solution-Goal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Provide a safe and healing environment of social suppor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Social support between the patients and also the patients with the clinicia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Appeal to all ages of pediatric patients in the hospital with child advocacy nee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Ambient experience” –interactive and flexible design specifically for individual patient’s preferen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Sectioned and open spaces to appeal to all ages of patie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915080" y="2181240"/>
            <a:ext cx="3695400" cy="371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B1E3-DB8D-40AB-B106-B62B1E2265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677B03-D07E-4979-A9FA-860BA0EE05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  <a:ea typeface="宋体"/>
              </a:rPr>
              <a:t>Solution-Social Support Center</a:t>
            </a:r>
            <a:r>
              <a:rPr b="1" lang="en-US" sz="3200" spc="-1" strike="noStrike">
                <a:solidFill>
                  <a:srgbClr val="eaeaea"/>
                </a:solidFill>
                <a:latin typeface="Tahoma"/>
                <a:ea typeface="宋体"/>
              </a:rPr>
              <a:t>	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World of Dreams Center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Motto: Provide children a “safe space” through a social support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The future belongs to those who believe in the beauty of their dreams.”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~Eleanor Roosevel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6B8B-4E38-42F6-93A8-CFACBFB04C1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3D0FD-36B7-4B13-B45C-A79A990F3A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2. Virtual environ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  <a:ea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E426-B48D-4960-90EB-D78796D7B60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B399144-E9C3-4F91-96D4-4E2D214CCC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22:05:42Z</dcterms:created>
  <dc:creator>Ron Davis</dc:creator>
  <dc:description/>
  <cp:keywords/>
  <dc:language>en-US</dc:language>
  <cp:lastModifiedBy>Lu, Yi</cp:lastModifiedBy>
  <dcterms:modified xsi:type="dcterms:W3CDTF">2007-10-11T20:24:33Z</dcterms:modified>
  <cp:revision>17</cp:revision>
  <dc:subject/>
  <dc:title>Team Lefthook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037921033</vt:lpwstr>
  </property>
</Properties>
</file>